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B91-3593-44B0-8371-07A705A6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109-B7C9-47B1-B561-913572E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573-18C8-4869-AB5E-271719A7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A5D-53A4-4DFA-9CCC-6CD78543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0AD-D9D7-47D1-A8ED-32056AB2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1D7-17A0-4B44-ACB4-1F689D05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87F6-3A47-4CB6-B586-EAB76EF5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96E-5041-4DFE-A98C-FDD1B681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744F-59A0-4955-8C16-4288E26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2F7A-CC05-44B1-816E-9DBC9B72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05F-4FAF-44B4-8A83-4075F48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62D-CDE8-48A1-868B-5D2D975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851B-F33D-4F64-8423-BD0C518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7DF6-94B5-42EE-9F5B-8C9AE26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5104-2D92-4503-B6D9-F815910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5EFF-86D0-44B0-8BF2-C9CADE2E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3C85-C2A0-466C-91B9-07CAF6C2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0D5-9705-46AE-AA97-0D186F36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94F-91BD-4AFE-98BF-B0627C7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8C7-70B2-43C2-BA09-1FBCEB9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C17-3F65-4B21-A09E-52F3F840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A42-1540-421C-A6E9-018EC0E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200-213F-4D56-84F5-3E15F99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3085-2021-4A4C-94C3-DF513B32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BD9-2514-44B0-A547-4F08A58AE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453C-3D3B-421E-B0EF-9515D91B6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google.com/imgres?imgurl=http://www.greenbuzzagency.com/wp-content/uploads/2009/12/numbers2-300x300.jpg&amp;imgrefurl=http://www.greenbuzzagency.com/social-media-consultant-show-me-the-numbers&amp;usg=__6qBJS3ChZeoq0SD3hfcJyGsFgV0=&amp;h=300&amp;w=300&amp;sz=40&amp;hl=en&amp;start=44&amp;itbs=1&amp;tbnid=yg4V5Krj4Y2VhM:&amp;tbnh=116&amp;tbnw=116&amp;prev=/images%3Fq%3Dnumbers%26start%3D40%26hl%3Den%26safe%3Dactive%26sa%3DN%26gbv%3D2%26ndsp%3D20%26tbs%3Disch:1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Calligraphy"/>
              </a:rPr>
              <a:t>Espan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Por:Gabr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Jacqu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m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p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abu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abu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733920" y="1916280"/>
            <a:ext cx="44956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naran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6576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u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ga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g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eph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648320" y="16765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ga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cu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po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co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800520" y="1828800"/>
            <a:ext cx="5343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9:18:24Z</dcterms:created>
  <dc:creator>WSFCS Workstation</dc:creator>
  <dc:description/>
  <dc:language>en-US</dc:language>
  <cp:lastModifiedBy>WSFCS Workstation</cp:lastModifiedBy>
  <dcterms:modified xsi:type="dcterms:W3CDTF">2010-04-27T19:47:57Z</dcterms:modified>
  <cp:revision>3</cp:revision>
  <dc:subject/>
  <dc:title>Espanol</dc:title>
</cp:coreProperties>
</file>